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A4E69-2459-469D-BD71-3304A4110C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1525C-F2DA-430C-99BE-6A69D69947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8857-135B-438B-B5E0-142205789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EE61-78BF-4FFE-A18C-F75FB64D2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FF53-95BD-4E98-A42A-101C0EDD9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19AF-66CA-434B-BA51-06AA9EE71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F0E1-A55B-4B6D-BBD6-3C3B4CF5C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3350-885A-4E56-BF00-8A28D97CC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F2BD-D4CB-4171-B94C-08DC0B0A2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3E28-561C-45F8-AF6F-9A365D778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9F97-C6DB-4B8A-AAE9-4A089AEFB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A8E1-A47D-4CA7-B649-66BDB4D4A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E5CB-04BD-404F-8D37-0BE47383F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B2D7-779F-46CD-A38C-69E337539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4CB22-4AEF-401B-88AC-3690A55F61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2.jpeg"/><Relationship Id="rId9" Type="http://schemas.openxmlformats.org/officeDocument/2006/relationships/image" Target="../media/image1.jpeg"/><Relationship Id="rId10" Type="http://schemas.openxmlformats.org/officeDocument/2006/relationships/image" Target="../media/image6.jpeg"/><Relationship Id="rId11" Type="http://schemas.openxmlformats.org/officeDocument/2006/relationships/image" Target="../media/image7.jpeg"/><Relationship Id="rId12" Type="http://schemas.openxmlformats.org/officeDocument/2006/relationships/image" Target="../media/image3.jpe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Brittany Gre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Brittany Gre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28600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Brittany Greve 165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51460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51460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Brittany Greve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152280" y="274320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Brittany Greve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74320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297180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1981080" y="1600200"/>
            <a:ext cx="2362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297180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20040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33412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42670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304920" y="510552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Ton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267080"/>
            <a:ext cx="44956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76320" y="3200400"/>
            <a:ext cx="1752480" cy="10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Mi llamo es brittany. Yo vivo en New York City.  Tengo catorce años. Yo tengo uno hermana. Yo amo gimnásticas y música. Yo tengo cabello rojo y ojos ver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62"/>
          <p:cNvSpPr/>
          <p:nvPr/>
        </p:nvSpPr>
        <p:spPr>
          <a:xfrm>
            <a:off x="1066680" y="510552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tri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64"/>
          <p:cNvSpPr/>
          <p:nvPr/>
        </p:nvSpPr>
        <p:spPr>
          <a:xfrm>
            <a:off x="0" y="6248520"/>
            <a:ext cx="762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eraldin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6"/>
          <p:cNvSpPr/>
          <p:nvPr/>
        </p:nvSpPr>
        <p:spPr>
          <a:xfrm flipH="1">
            <a:off x="1294560" y="60958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ann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7"/>
          <p:cNvSpPr/>
          <p:nvPr/>
        </p:nvSpPr>
        <p:spPr>
          <a:xfrm>
            <a:off x="2971800" y="4038480"/>
            <a:ext cx="6019920" cy="6858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343434"/>
                </a:solidFill>
                <a:latin typeface="Apple Symbols"/>
                <a:ea typeface="Apple Symbols"/>
              </a:rPr>
              <a:t>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343434"/>
                </a:solidFill>
                <a:latin typeface="Apple Symbols"/>
                <a:ea typeface="Apple Symbols"/>
              </a:rPr>
              <a:t>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343434"/>
                </a:solidFill>
                <a:latin typeface="Apple Symbols"/>
                <a:ea typeface="Apple Symbols"/>
              </a:rPr>
              <a:t></a:t>
            </a:r>
            <a:r>
              <a:rPr b="0" lang="es-ES_tradnl" sz="1200" spc="-1" strike="noStrike">
                <a:solidFill>
                  <a:srgbClr val="000000"/>
                </a:solidFill>
                <a:latin typeface="Apple Symbols"/>
                <a:ea typeface="Apple Symbols"/>
              </a:rPr>
              <a:t>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27"/>
          <p:cNvSpPr/>
          <p:nvPr/>
        </p:nvSpPr>
        <p:spPr>
          <a:xfrm>
            <a:off x="3048120" y="3352680"/>
            <a:ext cx="59436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Ton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Soy loco ahora. Estoy enfermo porque mi hermana. Esta enfermo todavía ¿Por qué es fiesta mañana?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Nuestros proyecto es muy mala! Nosotros son va a fracas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. Hoy es tres de Diciembre de 2012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7"/>
          <p:cNvSpPr/>
          <p:nvPr/>
        </p:nvSpPr>
        <p:spPr>
          <a:xfrm>
            <a:off x="2971800" y="2438280"/>
            <a:ext cx="6019920" cy="7621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Patric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Hola! Estoy muy cansado. ¿Dónde vives? Nosotros somos listo para el fiesta! Mi amigo pensar usted es muy bonita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Nosotros tenemos abrir mañana! Tú miras muy vieja! Chau!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sta : Comentario: 1 hora ago.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Hoy es tres de Diciembre de 2012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7"/>
          <p:cNvSpPr/>
          <p:nvPr/>
        </p:nvSpPr>
        <p:spPr>
          <a:xfrm>
            <a:off x="3048120" y="4876920"/>
            <a:ext cx="5867280" cy="53316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Hanna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Yo soy muy bien. Tú eres muy linda en el sus fotos escuela! Tengo a trabajar mañana! Muy arrepintió! Escucho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a tu mamá! Hablo a tu hermano, ella es muy bien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hago   Octubre 22, de 2012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7"/>
          <p:cNvSpPr/>
          <p:nvPr/>
        </p:nvSpPr>
        <p:spPr>
          <a:xfrm>
            <a:off x="3048120" y="5562720"/>
            <a:ext cx="5943600" cy="53316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Geraldi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Buenas noches! ¿Cuánto es el helado en escuela? Quiero helado antes su casa! Hasta pronto! Estamos muy bi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jo       Octubre 22, de 2012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7"/>
          <p:cNvSpPr/>
          <p:nvPr/>
        </p:nvSpPr>
        <p:spPr>
          <a:xfrm>
            <a:off x="3048120" y="6248520"/>
            <a:ext cx="525780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Stephani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Mañana hoy es una  prueba. Yo no puedo venir. Ellos son tienen un fiesta para Andrea! Pero te am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sta: Comentario 5 sceonds ajo            Octubre 22, de 2012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56"/>
          <p:cNvSpPr/>
          <p:nvPr/>
        </p:nvSpPr>
        <p:spPr>
          <a:xfrm>
            <a:off x="1905120" y="1905120"/>
            <a:ext cx="5029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Buenas tardes! ¿Cómo estás mis amigos?  ¿ Puede venir a mi casa mañana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62"/>
          <p:cNvSpPr/>
          <p:nvPr/>
        </p:nvSpPr>
        <p:spPr>
          <a:xfrm>
            <a:off x="610920" y="6095880"/>
            <a:ext cx="747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ephan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9" descr="111"/>
          <p:cNvPicPr/>
          <p:nvPr/>
        </p:nvPicPr>
        <p:blipFill>
          <a:blip r:embed="rId1"/>
          <a:stretch/>
        </p:blipFill>
        <p:spPr>
          <a:xfrm>
            <a:off x="1981080" y="2514600"/>
            <a:ext cx="838440" cy="6285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0" descr="007"/>
          <p:cNvPicPr/>
          <p:nvPr/>
        </p:nvPicPr>
        <p:blipFill>
          <a:blip r:embed="rId2"/>
          <a:stretch/>
        </p:blipFill>
        <p:spPr>
          <a:xfrm>
            <a:off x="2133720" y="32767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1" descr="956"/>
          <p:cNvPicPr/>
          <p:nvPr/>
        </p:nvPicPr>
        <p:blipFill>
          <a:blip r:embed="rId3"/>
          <a:stretch/>
        </p:blipFill>
        <p:spPr>
          <a:xfrm>
            <a:off x="2209680" y="4038480"/>
            <a:ext cx="571680" cy="7621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2" descr="900"/>
          <p:cNvPicPr/>
          <p:nvPr/>
        </p:nvPicPr>
        <p:blipFill>
          <a:blip r:embed="rId4"/>
          <a:stretch/>
        </p:blipFill>
        <p:spPr>
          <a:xfrm>
            <a:off x="457200" y="380880"/>
            <a:ext cx="743040" cy="9907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3" descr="387"/>
          <p:cNvPicPr/>
          <p:nvPr/>
        </p:nvPicPr>
        <p:blipFill>
          <a:blip r:embed="rId5"/>
          <a:stretch/>
        </p:blipFill>
        <p:spPr>
          <a:xfrm>
            <a:off x="2209680" y="48769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4" descr="843"/>
          <p:cNvPicPr/>
          <p:nvPr/>
        </p:nvPicPr>
        <p:blipFill>
          <a:blip r:embed="rId6"/>
          <a:stretch/>
        </p:blipFill>
        <p:spPr>
          <a:xfrm>
            <a:off x="2286000" y="5562720"/>
            <a:ext cx="457200" cy="6094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5" descr="945"/>
          <p:cNvPicPr/>
          <p:nvPr/>
        </p:nvPicPr>
        <p:blipFill>
          <a:blip r:embed="rId7"/>
          <a:stretch/>
        </p:blipFill>
        <p:spPr>
          <a:xfrm>
            <a:off x="2286000" y="6248520"/>
            <a:ext cx="539640" cy="5396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6" descr="007"/>
          <p:cNvPicPr/>
          <p:nvPr/>
        </p:nvPicPr>
        <p:blipFill>
          <a:blip r:embed="rId8"/>
          <a:stretch/>
        </p:blipFill>
        <p:spPr>
          <a:xfrm>
            <a:off x="228600" y="457200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7" descr="111"/>
          <p:cNvPicPr/>
          <p:nvPr/>
        </p:nvPicPr>
        <p:blipFill>
          <a:blip r:embed="rId9"/>
          <a:stretch/>
        </p:blipFill>
        <p:spPr>
          <a:xfrm>
            <a:off x="990720" y="4572000"/>
            <a:ext cx="761760" cy="5716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8" descr="843"/>
          <p:cNvPicPr/>
          <p:nvPr/>
        </p:nvPicPr>
        <p:blipFill>
          <a:blip r:embed="rId10"/>
          <a:stretch/>
        </p:blipFill>
        <p:spPr>
          <a:xfrm>
            <a:off x="76320" y="5486400"/>
            <a:ext cx="571320" cy="7621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9" descr="945"/>
          <p:cNvPicPr/>
          <p:nvPr/>
        </p:nvPicPr>
        <p:blipFill>
          <a:blip r:embed="rId11"/>
          <a:stretch/>
        </p:blipFill>
        <p:spPr>
          <a:xfrm>
            <a:off x="685800" y="5562720"/>
            <a:ext cx="615960" cy="6094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0" descr="956"/>
          <p:cNvPicPr/>
          <p:nvPr/>
        </p:nvPicPr>
        <p:blipFill>
          <a:blip r:embed="rId12"/>
          <a:stretch/>
        </p:blipFill>
        <p:spPr>
          <a:xfrm>
            <a:off x="1371600" y="5486400"/>
            <a:ext cx="5716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User</cp:lastModifiedBy>
  <dcterms:modified xsi:type="dcterms:W3CDTF">2013-01-02T18:26:03Z</dcterms:modified>
  <cp:revision>120</cp:revision>
  <dc:subject/>
  <dc:title>Profile</dc:title>
</cp:coreProperties>
</file>